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11.jpeg" ContentType="image/jpeg"/>
  <Override PartName="/ppt/media/image6.pct" ContentType="image/x-pict"/>
  <Override PartName="/ppt/media/image7.pct" ContentType="image/x-pict"/>
  <Override PartName="/ppt/media/image10.jpeg" ContentType="image/jpeg"/>
  <Override PartName="/ppt/media/image8.jpeg" ContentType="image/jpeg"/>
  <Override PartName="/ppt/media/image12.jpeg" ContentType="image/jpeg"/>
  <Override PartName="/ppt/media/image1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3E9A-4CE4-44BC-A96A-608778885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n.wikipedia.org/wiki/Image:Map_of_New_York_highlighting_Nassau_County.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423-B7BB-43F8-93CD-44BFE2DF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569-2922-45CB-A251-419398D9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65B-F5C8-40ED-AEE3-03B9CE81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67B-4525-453C-A194-3B091B3A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31A-F83C-4E0B-A77D-9C6E4F42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B25-6909-44F6-AF0B-C2161E65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94E-5FCE-4B92-9FBD-6C0885E5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C8B-6953-4839-B801-6616F8A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9E9-D3BD-4B69-912D-8D96C977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E9C-C6B4-4559-BA21-BCD3A29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BD9-EFB3-4B51-89C4-F1FC54F9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E60-1201-487E-908C-EA87E341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EDD-E797-4ADB-AA45-5B30F450C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p_of_New_York_highlighting_Nassau_County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ligoldcoast.com/lipublic.html" TargetMode="External"/><Relationship Id="rId4" Type="http://schemas.openxmlformats.org/officeDocument/2006/relationships/hyperlink" Target="http://www.realtor.com/FindHome/HomeListings.asp?mlsttl=&amp;frm=bymap&amp;pgnum=1&amp;mls=xmls&amp;js=on&amp;target=&amp;ct=great+neck&amp;st=NY&amp;sbint=&amp;sbls=&amp;sblo=&amp;lnksrc=SRP-ModSearch&amp;stype=&amp;areaid=938&amp;lid=Enter+MLS+ID&amp;ss_aywr=&amp;optInCheckbox=&amp;mnsqft=0&amp;fid=so&amp;vtsort=&amp;exft=0&amp;exft=0&amp;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Great Gatsb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23652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en light—at the end of the Buchanan’s dock—represents Gatsby’s hopes and d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www.dsimons.dds.nl/images/wallpapers/Green%20Traffic%20Light.jpg"/>
          <p:cNvPicPr/>
          <p:nvPr/>
        </p:nvPicPr>
        <p:blipFill>
          <a:blip r:embed="rId1"/>
          <a:stretch/>
        </p:blipFill>
        <p:spPr>
          <a:xfrm>
            <a:off x="5334120" y="2438280"/>
            <a:ext cx="3257280" cy="244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eyes of T.J. Eckleburg—a pair of eyes on a billboard ad for an eye doctor…they overlook the Valley and may represent God looking at and judging American soci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F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tting--Long Is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Image:Map of New York highlighting Nassau County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838080"/>
            <a:ext cx="4038480" cy="3121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676520"/>
            <a:ext cx="2743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ted on the southern part of New Y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urb of New York 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4075200"/>
            <a:ext cx="6019920" cy="278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ng Island "Gold Coast" is  where many of the nation's rich and famous built homes.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old Coast H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ing: Long Is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st Eg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based on Manhasset Neck, Long Island)—Represents “old mone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st Eg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based on Great neck, Long Island)—Represents “new mone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19360" cy="360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5486040" y="2743200"/>
            <a:ext cx="609480" cy="1905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724280"/>
            <a:ext cx="685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1523880"/>
            <a:ext cx="327024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nhasset and Great N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merican Dream and its disintegr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merican dream was originally abou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ursuit of happ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321000"/>
            <a:ext cx="3429000" cy="315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American Dream and its dis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unprecedented prosperity and material excess it became tarnished and lef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cial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pty pursuit of pl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ey and the sociology of weal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money vs. new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2160" y="3147840"/>
            <a:ext cx="91440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899160" cy="298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80" y="601992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George Bush Old money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400" y="61722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Flava New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ld money vs. new money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d money—aristocratic, inherited wealth, tasteful, elegant, have social graces…but  ultimately very shallow peopl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35520" y="1371600"/>
            <a:ext cx="335124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money vs. new mone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money—vulgar, self-made (rags to riches), showy, tack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9880" y="1407960"/>
            <a:ext cx="5029200" cy="393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27080" y="3962520"/>
            <a:ext cx="198432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ley of Ashes—between Long Island and NYC, a desolate wasteland used for dumping and burning trash—stands for a moral waste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Johannesburg Zoom In 1"/>
          <p:cNvPicPr/>
          <p:nvPr/>
        </p:nvPicPr>
        <p:blipFill>
          <a:blip r:embed="rId1"/>
          <a:stretch/>
        </p:blipFill>
        <p:spPr>
          <a:xfrm>
            <a:off x="2133720" y="3807000"/>
            <a:ext cx="4495680" cy="30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34:29Z</dcterms:created>
  <dc:creator>Laura Michaels</dc:creator>
  <dc:description/>
  <dc:language>en-US</dc:language>
  <cp:lastModifiedBy>Buffalo Grove High School</cp:lastModifiedBy>
  <dcterms:modified xsi:type="dcterms:W3CDTF">2007-04-24T13:33:28Z</dcterms:modified>
  <cp:revision>36</cp:revision>
  <dc:subject/>
  <dc:title>Great Gatsby</dc:title>
</cp:coreProperties>
</file>